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lick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CFC67A3-F1CD-4B10-B232-B49ECE8765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FCF0943-A380-46CC-89BA-1B953FD4513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6976129-5235-4047-9515-3DD190B49F9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4C5BD46-793C-45D2-B418-77501E0F5EE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E98DFD1-DFBD-4E00-88B3-8D7E7BE8D14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83ABEB2-D393-4DBD-A4FF-D7E71B1DBD6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71A1E58-6C13-4C42-BABE-8D6E1135896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1E60171-828D-49F9-96BD-CC7E35DBB28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E0ED591A-8391-4CFA-A9E2-79939DA74F5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3DEADA8-1C50-45D7-B465-0C167E8DE75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8B30398-31F1-48AC-8917-AE75589DE25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8D32240-33F0-4402-AEAA-D1B9B7B3ECC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E83D6BA-353C-46C9-AD2D-9D000E9817B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65444DC-8F9A-4739-B54A-0180C2A0608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854ACD3-0C0A-4698-8FD9-383175762EB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C1E6F32-74CC-4ED0-9C86-2DE37D420D5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E26D5AE-EB97-4A1C-8899-6546355DE99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261569A-FAF2-4780-B7C0-FD7A8B1C3EE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58A4CDFE-6C9E-44DE-9164-F6E5586E4CD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3F98811-B2F3-45F9-8F47-6A82B761F12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5900" spc="-1" strike="noStrike">
                <a:solidFill>
                  <a:srgbClr val="000000"/>
                </a:solidFill>
                <a:latin typeface="Verdana"/>
              </a:rPr>
              <a:t>audio introductions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STRUC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1106676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Practical and technical detail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Naming characters and loca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4" descr="A black headset."/>
          <p:cNvPicPr/>
          <p:nvPr/>
        </p:nvPicPr>
        <p:blipFill>
          <a:blip r:embed="rId1"/>
          <a:stretch/>
        </p:blipFill>
        <p:spPr>
          <a:xfrm>
            <a:off x="4794120" y="995400"/>
            <a:ext cx="968868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ACTUAL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DESCRIP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TY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imple sent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lear conjunc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pecific vocabulary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0" indent="-27360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ivid and engag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NALISE A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INALISE A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ED AI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ecording studio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2" descr="A grey condenser microphone against the backdrop of a recording booth."/>
          <p:cNvPicPr/>
          <p:nvPr/>
        </p:nvPicPr>
        <p:blipFill>
          <a:blip r:embed="rId1"/>
          <a:stretch/>
        </p:blipFill>
        <p:spPr>
          <a:xfrm>
            <a:off x="8748720" y="3038400"/>
            <a:ext cx="73152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ryer, L. &amp; Romero Fresco, P. (2014). Audiointroductions. In A. Maszerowska, A. Matamala &amp; P. Orero (Eds.), </a:t>
            </a:r>
            <a:r>
              <a:rPr b="0" i="1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ption. New Perspectives Illustra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(pp. 11-28). Amsterdam: John Benjami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5900" spc="-1" strike="noStrike">
                <a:solidFill>
                  <a:srgbClr val="000000"/>
                </a:solidFill>
                <a:latin typeface="Verdana"/>
              </a:rPr>
              <a:t>Audio introductions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udio introduction (AI)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98078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Running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actual and visual inform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films or live performanc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Picture 5" descr="A black and white clapperboard."/>
          <p:cNvPicPr/>
          <p:nvPr/>
        </p:nvPicPr>
        <p:blipFill>
          <a:blip r:embed="rId1"/>
          <a:stretch/>
        </p:blipFill>
        <p:spPr>
          <a:xfrm>
            <a:off x="10885320" y="2946240"/>
            <a:ext cx="533412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I and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98078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 combination with AD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tand-alone piece of tex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I + A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CONSISTENC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UN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FORMATIV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15640" y="2817360"/>
            <a:ext cx="953604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Directo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wards and critical acclai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Genr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opsis, et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ORESHADOW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110667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haracter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Location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tertextual referenc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EXPRESSIVE-AESTHETIC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110667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isual styl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ilm color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Editing techniques, etc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An extreme close-up of an eye."/>
          <p:cNvPicPr/>
          <p:nvPr/>
        </p:nvPicPr>
        <p:blipFill>
          <a:blip r:embed="rId1"/>
          <a:stretch/>
        </p:blipFill>
        <p:spPr>
          <a:xfrm>
            <a:off x="4819680" y="1211400"/>
            <a:ext cx="9317160" cy="61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3:06:00Z</dcterms:created>
  <dc:creator>Microsoft Office User</dc:creator>
  <dc:description/>
  <dc:language>en-US</dc:language>
  <cp:lastModifiedBy>1228835</cp:lastModifiedBy>
  <dcterms:modified xsi:type="dcterms:W3CDTF">2019-02-04T17:35:36Z</dcterms:modified>
  <cp:revision>2</cp:revision>
  <dc:subject/>
  <dc:title>Screen audio description: audio introductions</dc:title>
</cp:coreProperties>
</file>