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3.png" ContentType="image/png"/>
  <Override PartName="/ppt/media/click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78F01EA-C4A1-414F-A1B6-9FD88DA36BF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A8183D6-749D-4310-95CD-02D1F553644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4BDC9E1-95B6-4EFA-B3DE-B524708BBFD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C18E517-5287-4E88-9B43-132B3B38E86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6D95599-C13E-4DF4-9A3D-FC2B1F3D113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CB0BDD9-041C-4636-8CBB-89836700F9E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57A5814-CB99-4114-9251-EFDB7476659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AAB9F77-D26E-4D99-804B-870947DA1FA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0BB0B3B-4221-40DF-AF5F-A502A56FE6B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085E67C-AF25-4FC2-B44A-8445C7C424B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2FCB532-0DDC-45F9-B465-2870C67FEB3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5845359-0C2C-4706-8EAF-0F6144E0861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E528000-DCE5-49A2-A14C-240FC274023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0299A56-6273-474F-AC0C-55CB72E4595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A149AD81-6AB9-4EDB-974A-BB6C94C3CB6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C3AB599-3995-43A6-9523-D431E7037E6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0B7B3B8-D9D4-4CCB-9F61-917D2047CF0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ECD8585-5316-4045-ADA3-1D5CCB108DE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A3DBD9C-D99A-4BCE-802E-68A2F127E84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4C86D47-BB06-4E57-B3F2-7C375A0FDC3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02F0E46-213B-4A47-BE8A-BA6D07AE191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9FEE69C-D075-4EDB-85EF-C814B8E4A71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134ECF3-D342-4030-889F-A2895E31E0C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1DDB480E-19A6-4912-BAF5-F171A98CD85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E18FF26-58F9-4480-B8C9-B768A2575C9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36E7B28-095D-4C6D-96DC-14561C840B2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F69973F-EFE8-4DD8-B580-A7C6422202A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184A2E1-DCBD-452D-A2C7-504CDA8910E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film language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142040" y="3830760"/>
            <a:ext cx="104047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A flashback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RAMING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HOT TYP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3" descr="A skyline with high-rise buildings against cloudy sky."/>
          <p:cNvPicPr/>
          <p:nvPr/>
        </p:nvPicPr>
        <p:blipFill>
          <a:blip r:embed="rId1"/>
          <a:stretch/>
        </p:blipFill>
        <p:spPr>
          <a:xfrm>
            <a:off x="3484440" y="1901880"/>
            <a:ext cx="11862000" cy="63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A close-up of a red apple hanging on a tree branch."/>
          <p:cNvPicPr/>
          <p:nvPr/>
        </p:nvPicPr>
        <p:blipFill>
          <a:blip r:embed="rId1"/>
          <a:stretch/>
        </p:blipFill>
        <p:spPr>
          <a:xfrm>
            <a:off x="3905280" y="1582560"/>
            <a:ext cx="10304280" cy="663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HOT DUR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A mountainous landscape."/>
          <p:cNvPicPr/>
          <p:nvPr/>
        </p:nvPicPr>
        <p:blipFill>
          <a:blip r:embed="rId1"/>
          <a:stretch/>
        </p:blipFill>
        <p:spPr>
          <a:xfrm>
            <a:off x="3978360" y="1557360"/>
            <a:ext cx="10553760" cy="647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ONG TAKE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MORE DETAILED A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EDITING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400832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hot arrangement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 AD: fast cut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short and simple sentenc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TERMINE FILMIC TECHNIQUES</a:t>
            </a:r>
            <a:br>
              <a:rPr sz="6000"/>
            </a:b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&amp; FUNCT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A close-up of a woman's eyes."/>
          <p:cNvPicPr/>
          <p:nvPr/>
        </p:nvPicPr>
        <p:blipFill>
          <a:blip r:embed="rId1"/>
          <a:stretch/>
        </p:blipFill>
        <p:spPr>
          <a:xfrm>
            <a:off x="4151160" y="1359000"/>
            <a:ext cx="106524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A spiral of film tape."/>
          <p:cNvPicPr/>
          <p:nvPr/>
        </p:nvPicPr>
        <p:blipFill>
          <a:blip r:embed="rId1"/>
          <a:stretch/>
        </p:blipFill>
        <p:spPr>
          <a:xfrm>
            <a:off x="3929040" y="1265400"/>
            <a:ext cx="9910800" cy="63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D STRATEGI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66680" y="2644920"/>
            <a:ext cx="16405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Ey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in close-up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nam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close-up reflects fear in her eyes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name + func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ear is reflected in her eyes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func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LMIC TECHNIQUES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LANGUAGE STRUCTUR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1136520" y="2892240"/>
            <a:ext cx="8748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 man drinks water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 hand holding a glass of water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4" descr="A hand holding a glass of water."/>
          <p:cNvPicPr/>
          <p:nvPr/>
        </p:nvPicPr>
        <p:blipFill>
          <a:blip r:embed="rId1"/>
          <a:stretch/>
        </p:blipFill>
        <p:spPr>
          <a:xfrm>
            <a:off x="10044000" y="2500200"/>
            <a:ext cx="760104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WHAT + HOW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‘SEE’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Perego, E. (2014). Film language and tools. In A. Maszerowska, A. Matamala &amp; P. Orero (Eds.), </a:t>
            </a:r>
            <a:r>
              <a:rPr b="0" i="1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ption. New Perspectives Illustra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pp. 81-101). Amsterdam: John Benjami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Film language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LM TECHNIQUES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11664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Mi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e-en-scène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inematograph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diting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MI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SE-EN-SCÈNE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11664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etting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Costumes and makeup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aging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5" descr="A blond woman with a red dot on her forehead  and lavish, dangling earrings. "/>
          <p:cNvPicPr/>
          <p:nvPr/>
        </p:nvPicPr>
        <p:blipFill>
          <a:blip r:embed="rId1"/>
          <a:stretch/>
        </p:blipFill>
        <p:spPr>
          <a:xfrm>
            <a:off x="11615760" y="2600280"/>
            <a:ext cx="37368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MI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SE-EN-SCÈNE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D PRIORITI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CINEMATOGRAPHY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3065040"/>
            <a:ext cx="1106676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hotographic qualiti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am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Duration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Picture 5" descr="A camera recorder."/>
          <p:cNvPicPr/>
          <p:nvPr/>
        </p:nvPicPr>
        <p:blipFill>
          <a:blip r:embed="rId1"/>
          <a:stretch/>
        </p:blipFill>
        <p:spPr>
          <a:xfrm>
            <a:off x="9391680" y="2798640"/>
            <a:ext cx="6791400" cy="45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P</a:t>
            </a:r>
            <a:r>
              <a:rPr b="1" lang="en-GB" sz="6000" spc="-1" strike="noStrike">
                <a:solidFill>
                  <a:srgbClr val="000000"/>
                </a:solidFill>
                <a:latin typeface="Verdana"/>
                <a:ea typeface="Verdana"/>
              </a:rPr>
              <a:t>HOTOGRAPHIC QUALITIES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680" y="2693880"/>
            <a:ext cx="876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olou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Speed of mo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Light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Camera angles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A silhouette of a man in a tunnel in black and white."/>
          <p:cNvPicPr/>
          <p:nvPr/>
        </p:nvPicPr>
        <p:blipFill>
          <a:blip r:embed="rId1"/>
          <a:stretch/>
        </p:blipFill>
        <p:spPr>
          <a:xfrm>
            <a:off x="4078440" y="1755720"/>
            <a:ext cx="99583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97560" y="3830760"/>
            <a:ext cx="129492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Now in </a:t>
            </a:r>
            <a:r>
              <a:rPr b="1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black and white</a:t>
            </a:r>
            <a:r>
              <a:rPr b="0" lang="pl-PL" sz="4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8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3:05:29Z</dcterms:created>
  <dc:creator>Microsoft Office User</dc:creator>
  <dc:description/>
  <dc:language>en-US</dc:language>
  <cp:lastModifiedBy>1228835</cp:lastModifiedBy>
  <dcterms:modified xsi:type="dcterms:W3CDTF">2019-02-04T17:29:00Z</dcterms:modified>
  <cp:revision>2</cp:revision>
  <dc:subject/>
  <dc:title>Screen audio description: film language</dc:title>
</cp:coreProperties>
</file>