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click.wav" ContentType="audio/x-wav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</p:sldIdLst>
  <p:sldSz cx="18288000" cy="10288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933231A5-F83D-44AA-85A8-E06F0AC7E01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30116184-ED31-4081-9A94-DEA2942D6D4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AF4030C8-6C4C-4FAA-883F-78219EA60468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14066F48-BC44-4E51-9123-A532FAF6C81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CC3D5B2C-644D-4604-A5A7-B178DD0BE0EB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4CA6666E-09F6-4567-83C3-67BFDC9C056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9C0D26FC-677C-4B85-8558-224D57A03317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EB8A0FAE-97E5-4098-9C74-A42E27D7F8B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F84F51F8-2C9E-42BE-8C9F-260F60758ECA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F9A93975-C3FE-4581-B52E-B4B3A3C201FC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A9A5C4D1-16A6-4C72-8B92-0E6A18ADB346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2D5CFC94-097F-4B64-8FEE-7875DF248F2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6025AEA2-267E-4645-86CE-DCD630D61DAD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EF3FEFCD-4F8C-4B5D-906C-60C4BC6EFA67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6870FF53-436B-4974-9175-6EF5F8E012E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3D8C8D46-78C5-4377-B95B-8F2732305799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340F235F-9CAD-476C-8CD4-A32BEAA5CB9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F62BA59F-47DE-4716-B5CA-3D0A66ED614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3BA9A7E5-0954-4135-A884-FCE7784A299D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3BA33B5D-0EC8-4279-8ECF-C5165597E71E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3D03F649-B910-41DA-95BE-BB3D3F7F7D7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5498A86F-77F4-4DF9-98ED-F84E8AF765E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811FC3EB-153D-4F40-889B-F4AF589F8A2E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370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411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413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453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493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534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536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57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61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65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69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9360" indent="-27936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84132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40184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96200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52396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523960" indent="-279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523960" indent="-279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38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40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80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82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162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203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205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245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247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288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290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330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dlabproject.eu/Docs/adlab%20book/index.html" TargetMode="External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025640" y="647280"/>
            <a:ext cx="1616544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Screen ad: </a:t>
            </a:r>
            <a:r>
              <a:rPr b="1" lang="pl-PL" sz="6600" spc="-1" strike="noStrike">
                <a:solidFill>
                  <a:srgbClr val="000000"/>
                </a:solidFill>
                <a:latin typeface="Verdana"/>
              </a:rPr>
              <a:t>characters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497400" y="2030400"/>
            <a:ext cx="11221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odule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nit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497400" y="3673440"/>
            <a:ext cx="11221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3500" spc="-1" strike="noStrike">
                <a:solidFill>
                  <a:srgbClr val="000000"/>
                </a:solidFill>
                <a:latin typeface="Verdana"/>
              </a:rPr>
              <a:t>Iwona mazur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ymbol zastępczy tekstu 6"/>
          <p:cNvSpPr/>
          <p:nvPr/>
        </p:nvSpPr>
        <p:spPr>
          <a:xfrm>
            <a:off x="3497400" y="4335480"/>
            <a:ext cx="1185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ADAM MICKIEWICZ UNIVERS</a:t>
            </a:r>
            <a:r>
              <a:rPr b="1" lang="pl-PL" sz="3500" spc="-1" strike="noStrike">
                <a:solidFill>
                  <a:srgbClr val="000000"/>
                </a:solidFill>
                <a:latin typeface="Verdana"/>
                <a:ea typeface="Verdana"/>
              </a:rPr>
              <a:t>I</a:t>
            </a: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TY IN POZNA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LINEAR VS. NON-LINEAR PERCEP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6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LINEARIT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61" name="Symbol zastępczy tekstu 2" descr=""/>
          <p:cNvPicPr/>
          <p:nvPr/>
        </p:nvPicPr>
        <p:blipFill>
          <a:blip r:embed="rId1"/>
          <a:stretch/>
        </p:blipFill>
        <p:spPr>
          <a:xfrm>
            <a:off x="878040" y="3067200"/>
            <a:ext cx="8437320" cy="417492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5" descr="A woman wearing a visor, floral top, white skirt and wedges."/>
          <p:cNvPicPr/>
          <p:nvPr/>
        </p:nvPicPr>
        <p:blipFill>
          <a:blip r:embed="rId2"/>
          <a:stretch/>
        </p:blipFill>
        <p:spPr>
          <a:xfrm>
            <a:off x="10848960" y="2262240"/>
            <a:ext cx="4078440" cy="54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GESTURES AND FACIAL EXPRESSION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NAM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407960" y="3139920"/>
            <a:ext cx="83534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She makes the ‘OK’ gesture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”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ymbol zastępczy tekstu 2"/>
          <p:cNvSpPr/>
          <p:nvPr/>
        </p:nvSpPr>
        <p:spPr>
          <a:xfrm>
            <a:off x="9478800" y="7334280"/>
            <a:ext cx="981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" descr="A young woman raising her thumb in an 'OK' gesture."/>
          <p:cNvPicPr/>
          <p:nvPr/>
        </p:nvPicPr>
        <p:blipFill>
          <a:blip r:embed="rId1"/>
          <a:stretch/>
        </p:blipFill>
        <p:spPr>
          <a:xfrm>
            <a:off x="10156680" y="2751120"/>
            <a:ext cx="6402600" cy="40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DESCRIB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07960" y="3139920"/>
            <a:ext cx="83534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She 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raises her thumb.”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ymbol zastępczy tekstu 2"/>
          <p:cNvSpPr/>
          <p:nvPr/>
        </p:nvSpPr>
        <p:spPr>
          <a:xfrm>
            <a:off x="9478800" y="7334280"/>
            <a:ext cx="981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2" descr="A young woman raising her thumb in an 'OK' gesture."/>
          <p:cNvPicPr/>
          <p:nvPr/>
        </p:nvPicPr>
        <p:blipFill>
          <a:blip r:embed="rId1"/>
          <a:stretch/>
        </p:blipFill>
        <p:spPr>
          <a:xfrm>
            <a:off x="10156680" y="2751120"/>
            <a:ext cx="6402600" cy="40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DESCRIBE + NAM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407960" y="3139920"/>
            <a:ext cx="83534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4012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She 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raises her thumb in a ‘OK’ gesture.”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4012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ymbol zastępczy tekstu 2"/>
          <p:cNvSpPr/>
          <p:nvPr/>
        </p:nvSpPr>
        <p:spPr>
          <a:xfrm>
            <a:off x="9478800" y="7334280"/>
            <a:ext cx="981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" descr="A young woman raising her thumb in an 'OK' gesture."/>
          <p:cNvPicPr/>
          <p:nvPr/>
        </p:nvPicPr>
        <p:blipFill>
          <a:blip r:embed="rId1"/>
          <a:stretch/>
        </p:blipFill>
        <p:spPr>
          <a:xfrm>
            <a:off x="10156680" y="2751120"/>
            <a:ext cx="6402600" cy="40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INTRODUCING CHARACTER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NAME RIGHT AWA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407960" y="3139920"/>
            <a:ext cx="83534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An older man with a beard, John.”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ymbol zastępczy tekstu 2"/>
          <p:cNvSpPr/>
          <p:nvPr/>
        </p:nvSpPr>
        <p:spPr>
          <a:xfrm>
            <a:off x="9478800" y="7334280"/>
            <a:ext cx="981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2" descr="A man with a beard."/>
          <p:cNvPicPr/>
          <p:nvPr/>
        </p:nvPicPr>
        <p:blipFill>
          <a:blip r:embed="rId1"/>
          <a:stretch/>
        </p:blipFill>
        <p:spPr>
          <a:xfrm>
            <a:off x="11220480" y="2414520"/>
            <a:ext cx="4373640" cy="54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NAME LATER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407960" y="3139920"/>
            <a:ext cx="8353440" cy="37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Man with a beard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o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Bearded man”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ymbol zastępczy tekstu 2"/>
          <p:cNvSpPr/>
          <p:nvPr/>
        </p:nvSpPr>
        <p:spPr>
          <a:xfrm>
            <a:off x="9478800" y="7334280"/>
            <a:ext cx="981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2" descr="Gray Scale Photo of Male With Beard"/>
          <p:cNvPicPr/>
          <p:nvPr/>
        </p:nvPicPr>
        <p:blipFill>
          <a:blip r:embed="rId1"/>
          <a:stretch/>
        </p:blipFill>
        <p:spPr>
          <a:xfrm>
            <a:off x="11220480" y="2414520"/>
            <a:ext cx="4373640" cy="54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INFLUENCING PARAMETER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066320" y="3114720"/>
            <a:ext cx="16446600" cy="28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Time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Secret identity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ymbol zastępczy tekstu 2"/>
          <p:cNvSpPr/>
          <p:nvPr/>
        </p:nvSpPr>
        <p:spPr>
          <a:xfrm>
            <a:off x="9478800" y="7334280"/>
            <a:ext cx="981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Characters </a:t>
            </a: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 story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REFERENC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166672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Remael, A., Reviers, N., 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&amp; 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Vercauteren, G. (2015)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Pictures painted in words. ADLAB Audio Description guidelines. 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Trieste: EUT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 Retrieved from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4000" spc="-1" strike="noStrike" u="sng">
                <a:solidFill>
                  <a:srgbClr val="0563c1"/>
                </a:solidFill>
                <a:uFillTx/>
                <a:latin typeface="Verdana"/>
                <a:ea typeface="Verdana"/>
                <a:hlinkClick r:id="rId1"/>
              </a:rPr>
              <a:t>www.adlabproject.eu/Docs/adlab%20book/index.htm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025640" y="647280"/>
            <a:ext cx="1616544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Screen ad: </a:t>
            </a:r>
            <a:r>
              <a:rPr b="1" lang="pl-PL" sz="6600" spc="-1" strike="noStrike">
                <a:solidFill>
                  <a:srgbClr val="000000"/>
                </a:solidFill>
                <a:latin typeface="Verdana"/>
              </a:rPr>
              <a:t>characters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497400" y="2030400"/>
            <a:ext cx="11221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odule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nit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497400" y="3673440"/>
            <a:ext cx="11221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3500" spc="-1" strike="noStrike">
                <a:solidFill>
                  <a:srgbClr val="000000"/>
                </a:solidFill>
                <a:latin typeface="Verdana"/>
              </a:rPr>
              <a:t>Iwona mazur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ymbol zastępczy tekstu 6"/>
          <p:cNvSpPr/>
          <p:nvPr/>
        </p:nvSpPr>
        <p:spPr>
          <a:xfrm>
            <a:off x="3497400" y="4335480"/>
            <a:ext cx="1185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ADAM MICKIEWICZ UNIVERS</a:t>
            </a:r>
            <a:r>
              <a:rPr b="1" lang="pl-PL" sz="3500" spc="-1" strike="noStrike">
                <a:solidFill>
                  <a:srgbClr val="000000"/>
                </a:solidFill>
                <a:latin typeface="Verdana"/>
                <a:ea typeface="Verdana"/>
              </a:rPr>
              <a:t>I</a:t>
            </a: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TY IN POZNA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1913040" y="581040"/>
            <a:ext cx="14762160" cy="86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The preparation of this presentation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was supported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by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ADLAB PR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(Audio Description: A Labora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for the Development of a New Professional Profile)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financed by the European Un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under the Erasmus+ Programm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Key Action 2 – Strategic Partnerships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Project number:2016-1-IT02-KA203-024311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2453760" y="1380600"/>
            <a:ext cx="15011640" cy="78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The information and views set out in this pres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are those of the authors and do not necessarily refl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the official opinion of the European Un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Neither the European Union institutions and bod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nor any person acting on their behalf may be held responsible</a:t>
            </a:r>
            <a:r>
              <a:rPr b="0" lang="pl-PL" sz="4000" spc="-1" strike="noStrike">
                <a:solidFill>
                  <a:srgbClr val="212121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for the use which may be ma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of the information contained therei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CHARACTER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7508880" cy="37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Foca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Support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Backgroun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TRAIT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066320" y="3065040"/>
            <a:ext cx="1106676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Appearance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Actions and reaction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Dialogue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PRIORITISA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Picture 4" descr="A desk with neatly arranged laptop, notebook, pen and phone."/>
          <p:cNvPicPr/>
          <p:nvPr/>
        </p:nvPicPr>
        <p:blipFill>
          <a:blip r:embed="rId1"/>
          <a:stretch/>
        </p:blipFill>
        <p:spPr>
          <a:xfrm>
            <a:off x="4270320" y="1347840"/>
            <a:ext cx="10212480" cy="68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Tytuł 1" descr=""/>
          <p:cNvPicPr/>
          <p:nvPr/>
        </p:nvPicPr>
        <p:blipFill>
          <a:blip r:embed="rId1"/>
          <a:stretch/>
        </p:blipFill>
        <p:spPr>
          <a:xfrm>
            <a:off x="-476280" y="3797280"/>
            <a:ext cx="1876428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ymbol zastępczy tekstu 2"/>
          <p:cNvSpPr/>
          <p:nvPr/>
        </p:nvSpPr>
        <p:spPr>
          <a:xfrm>
            <a:off x="9478800" y="7334280"/>
            <a:ext cx="981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2" descr="A young woman with long, wavy blond hair, smoky eyes and full red lips."/>
          <p:cNvPicPr/>
          <p:nvPr/>
        </p:nvPicPr>
        <p:blipFill>
          <a:blip r:embed="rId1"/>
          <a:stretch/>
        </p:blipFill>
        <p:spPr>
          <a:xfrm>
            <a:off x="4675320" y="1484280"/>
            <a:ext cx="9559800" cy="614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GRADUAL DESCRIP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30T13:02:00Z</dcterms:created>
  <dc:creator>Microsoft Office User</dc:creator>
  <dc:description/>
  <dc:language>en-US</dc:language>
  <cp:lastModifiedBy>1228835</cp:lastModifiedBy>
  <dcterms:modified xsi:type="dcterms:W3CDTF">2019-02-04T15:53:16Z</dcterms:modified>
  <cp:revision>2</cp:revision>
  <dc:subject/>
  <dc:title>Screen audio description: characters</dc:title>
</cp:coreProperties>
</file>