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lick.wav" ContentType="audio/x-wav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D5107A65-036A-4F9D-828F-195B36DEB4B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B43D6C38-C55A-40D3-8931-12127D18341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17AB13E-BFA6-4E06-A7B2-33129741B69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B3F5F855-CC15-409D-BA9F-7312C4E9696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6C7AD5A-E849-4A6C-8FF2-3810A12C2AA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851F795-6721-43AA-8006-0466EC865F3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FA0089C-2B14-4B55-98EB-2DB580A36E0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F26DCDF5-412B-4F36-8AFB-29531C87190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D279720E-9DBB-4AEE-8739-2C5E3EA6D24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6502E60A-873D-4E8F-85D7-77D3B506F21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01FD59DC-0322-48B2-83FB-E800CF74764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2E77BF4-FD86-40B6-ACB6-8CC170A0B8C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331CAFD4-6990-47BA-8368-CAF73A92C5D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95359B6-A949-41AF-918C-92F2942CB9C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0D3C41B-7C71-4222-9581-6FFB2F014CA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7B9F3AC-2132-402D-A702-ADDA83FFAF0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D3948D92-06D5-4C8A-8123-08C9ADD9EE5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CE109AD1-F083-4387-9813-6A888EC450A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95499B40-5B87-40ED-8889-669D0FB6984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8C142DFC-F760-4DB0-8E76-5943461EE22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DFF94A91-3BDB-40D7-AF98-626B3D39C88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s-E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75CC1C17-7F25-45BF-88D5-540AAA86A1B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410400"/>
            <a:ext cx="16458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5524200"/>
            <a:ext cx="16458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348120" y="240732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9348120" y="5524200"/>
            <a:ext cx="803160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47928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044160" y="240732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647928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2044160" y="5524200"/>
            <a:ext cx="529956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411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13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5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493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534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536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57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1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696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410400"/>
            <a:ext cx="16458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2407320"/>
            <a:ext cx="16458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9360" indent="-279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84132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40184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96200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523960" indent="-27936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•"/>
              <a:tabLst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523960" indent="-279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3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80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Obraz 4" descr=""/>
          <p:cNvPicPr/>
          <p:nvPr/>
        </p:nvPicPr>
        <p:blipFill>
          <a:blip r:embed="rId3"/>
          <a:stretch/>
        </p:blipFill>
        <p:spPr>
          <a:xfrm>
            <a:off x="7451640" y="979488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03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05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45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47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riangolo isoscele 17"/>
          <p:cNvSpPr/>
          <p:nvPr/>
        </p:nvSpPr>
        <p:spPr>
          <a:xfrm>
            <a:off x="0" y="6130800"/>
            <a:ext cx="18288000" cy="4156200"/>
          </a:xfrm>
          <a:prstGeom prst="triangle">
            <a:avLst>
              <a:gd name="adj" fmla="val 49694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magine 18" descr=""/>
          <p:cNvPicPr/>
          <p:nvPr/>
        </p:nvPicPr>
        <p:blipFill>
          <a:blip r:embed="rId2"/>
          <a:stretch/>
        </p:blipFill>
        <p:spPr>
          <a:xfrm>
            <a:off x="7891560" y="5229360"/>
            <a:ext cx="2504880" cy="2504880"/>
          </a:xfrm>
          <a:prstGeom prst="rect">
            <a:avLst/>
          </a:prstGeom>
          <a:ln w="0">
            <a:noFill/>
          </a:ln>
        </p:spPr>
      </p:pic>
      <p:sp>
        <p:nvSpPr>
          <p:cNvPr id="288" name="Sottotitolo 2"/>
          <p:cNvSpPr/>
          <p:nvPr/>
        </p:nvSpPr>
        <p:spPr>
          <a:xfrm>
            <a:off x="2286000" y="8951760"/>
            <a:ext cx="137160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noAutofit/>
          </a:bodyPr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ept. of Legal, Language, Translation and Interpreting Studies, Section of in Modern Languages for Interpreters and Transl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iversity of Trieste, Via Filzi, 14 - 34144 Trieste, Ita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ject numberStudies: 2016-1-IT02-KA203-0243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adlabproject.e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UNDED BY THE ERASMUS + PROGRAMME OF THE EUROPEAN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magine 20" descr=""/>
          <p:cNvPicPr/>
          <p:nvPr/>
        </p:nvPicPr>
        <p:blipFill>
          <a:blip r:embed="rId3"/>
          <a:stretch/>
        </p:blipFill>
        <p:spPr>
          <a:xfrm>
            <a:off x="8736120" y="9690120"/>
            <a:ext cx="815760" cy="541440"/>
          </a:xfrm>
          <a:prstGeom prst="rect">
            <a:avLst/>
          </a:prstGeom>
          <a:ln w="0">
            <a:noFill/>
          </a:ln>
        </p:spPr>
      </p:pic>
      <p:sp>
        <p:nvSpPr>
          <p:cNvPr id="290" name="Rettangolo 26"/>
          <p:cNvSpPr/>
          <p:nvPr/>
        </p:nvSpPr>
        <p:spPr>
          <a:xfrm>
            <a:off x="123840" y="125280"/>
            <a:ext cx="18040320" cy="10161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ttangolo 27"/>
          <p:cNvSpPr/>
          <p:nvPr/>
        </p:nvSpPr>
        <p:spPr>
          <a:xfrm>
            <a:off x="217440" y="201600"/>
            <a:ext cx="17853120" cy="10085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raz 7" descr=""/>
          <p:cNvPicPr/>
          <p:nvPr/>
        </p:nvPicPr>
        <p:blipFill>
          <a:blip r:embed="rId4"/>
          <a:stretch/>
        </p:blipFill>
        <p:spPr>
          <a:xfrm>
            <a:off x="7843680" y="7873920"/>
            <a:ext cx="260064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1c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Immagine 6" descr=" "/>
          <p:cNvPicPr/>
          <p:nvPr/>
        </p:nvPicPr>
        <p:blipFill>
          <a:blip r:embed="rId2"/>
          <a:stretch/>
        </p:blipFill>
        <p:spPr>
          <a:xfrm>
            <a:off x="515880" y="353880"/>
            <a:ext cx="1989360" cy="1987560"/>
          </a:xfrm>
          <a:prstGeom prst="rect">
            <a:avLst/>
          </a:prstGeom>
          <a:ln w="0">
            <a:noFill/>
          </a:ln>
        </p:spPr>
      </p:pic>
      <p:sp>
        <p:nvSpPr>
          <p:cNvPr id="330" name="Rettangolo 12"/>
          <p:cNvSpPr/>
          <p:nvPr/>
        </p:nvSpPr>
        <p:spPr>
          <a:xfrm>
            <a:off x="123840" y="125280"/>
            <a:ext cx="18040320" cy="9890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tangolo 13"/>
          <p:cNvSpPr/>
          <p:nvPr/>
        </p:nvSpPr>
        <p:spPr>
          <a:xfrm>
            <a:off x="217440" y="201600"/>
            <a:ext cx="17853120" cy="970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az 4" descr=""/>
          <p:cNvPicPr/>
          <p:nvPr/>
        </p:nvPicPr>
        <p:blipFill>
          <a:blip r:embed="rId3"/>
          <a:stretch/>
        </p:blipFill>
        <p:spPr>
          <a:xfrm>
            <a:off x="7467480" y="9786960"/>
            <a:ext cx="335304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dlabproject.eu/Docs/adlab%20book/index.html" TargetMode="External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RECORDING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VOICE TYPE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GENR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PRE-RECORDING CHE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4379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ynchrony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Timecod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4" descr="A desk with a microphone, two screens, a laptop, headphones and a keyboard."/>
          <p:cNvPicPr/>
          <p:nvPr/>
        </p:nvPicPr>
        <p:blipFill>
          <a:blip r:embed="rId1"/>
          <a:stretch/>
        </p:blipFill>
        <p:spPr>
          <a:xfrm>
            <a:off x="4251240" y="944640"/>
            <a:ext cx="10676160" cy="71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RECORD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3114360"/>
            <a:ext cx="164466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oice talent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ound director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ound designer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b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OUND DIRECTO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OUND DESIGNE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BER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OUND MIX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Symbol zastępczy tekstu 2"/>
          <p:cNvSpPr/>
          <p:nvPr/>
        </p:nvSpPr>
        <p:spPr>
          <a:xfrm>
            <a:off x="9478800" y="7334280"/>
            <a:ext cx="981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25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7" descr="A mixing console."/>
          <p:cNvPicPr/>
          <p:nvPr/>
        </p:nvPicPr>
        <p:blipFill>
          <a:blip r:embed="rId1"/>
          <a:stretch/>
        </p:blipFill>
        <p:spPr>
          <a:xfrm>
            <a:off x="4210200" y="2384280"/>
            <a:ext cx="9620280" cy="5661000"/>
          </a:xfrm>
          <a:prstGeom prst="rect">
            <a:avLst/>
          </a:prstGeom>
          <a:ln w="0">
            <a:noFill/>
          </a:ln>
        </p:spPr>
      </p:pic>
      <p:sp>
        <p:nvSpPr>
          <p:cNvPr id="773" name="Prostokąt 4"/>
          <p:cNvSpPr/>
          <p:nvPr/>
        </p:nvSpPr>
        <p:spPr>
          <a:xfrm>
            <a:off x="4229280" y="8238960"/>
            <a:ext cx="111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hoto courtesy of Sound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OUND LEVEL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REFERENC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6667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Remael, A., Reviers, N., 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&amp;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Vercauteren, G. (2015)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Pictures painted in words. ADLAB Audio Description guidelines. 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Trieste: EUT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. Retrieved from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4000" spc="-1" strike="noStrike" u="sng">
                <a:solidFill>
                  <a:srgbClr val="0563c1"/>
                </a:solidFill>
                <a:uFillTx/>
                <a:latin typeface="Verdana"/>
                <a:ea typeface="Verdana"/>
                <a:hlinkClick r:id="rId1"/>
              </a:rPr>
              <a:t>www.adlabproject.eu/Docs/adlab%20book/index.htm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RECORDED</a:t>
            </a: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Verdana"/>
              </a:rPr>
              <a:t> AD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5378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Audio describ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Voice tal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Synthetic voic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0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25640" y="647280"/>
            <a:ext cx="1616544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Screen ad: </a:t>
            </a:r>
            <a:r>
              <a:rPr b="1" lang="pl-PL" sz="6600" spc="-1" strike="noStrike">
                <a:solidFill>
                  <a:srgbClr val="000000"/>
                </a:solidFill>
                <a:latin typeface="Verdana"/>
              </a:rPr>
              <a:t>RECORDING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497400" y="2030400"/>
            <a:ext cx="11221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dule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nit </a:t>
            </a:r>
            <a:r>
              <a:rPr b="1" lang="pl-PL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497400" y="3673440"/>
            <a:ext cx="11221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Verdana"/>
              </a:rPr>
              <a:t>Iwona mazu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ymbol zastępczy tekstu 6"/>
          <p:cNvSpPr/>
          <p:nvPr/>
        </p:nvSpPr>
        <p:spPr>
          <a:xfrm>
            <a:off x="3497400" y="4335480"/>
            <a:ext cx="11855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ADAM MICKIEWICZ UNIVERS</a:t>
            </a:r>
            <a:r>
              <a:rPr b="1" lang="pl-PL" sz="3500" spc="-1" strike="noStrike">
                <a:solidFill>
                  <a:srgbClr val="000000"/>
                </a:solidFill>
                <a:latin typeface="Verdana"/>
                <a:ea typeface="Verdana"/>
              </a:rPr>
              <a:t>I</a:t>
            </a:r>
            <a:r>
              <a:rPr b="1" lang="en-US" sz="3500" spc="-1" strike="noStrike">
                <a:solidFill>
                  <a:srgbClr val="000000"/>
                </a:solidFill>
                <a:latin typeface="Verdana"/>
                <a:ea typeface="Verdana"/>
              </a:rPr>
              <a:t>TY IN POZN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913040" y="581040"/>
            <a:ext cx="14762160" cy="86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The preparation of this presentation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was supported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by</a:t>
            </a: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ADLAB P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(Audio Description: A Labo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Development of a New Professional Profile)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financed by the European Un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under the Erasmus+ Program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Key Action 2 – Strategic Partnership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Project number:2016-1-IT02-KA203-024311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2453760" y="1380600"/>
            <a:ext cx="15011640" cy="785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information and views set out in this pres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are those of the authors and do not necessarily refl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the official opinion of the European Un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either the European Union institutions and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nor any person acting on their behalf may be held responsible</a:t>
            </a:r>
            <a:r>
              <a:rPr b="0" lang="pl-PL" sz="4000" spc="-1" strike="noStrike">
                <a:solidFill>
                  <a:srgbClr val="212121"/>
                </a:solidFill>
                <a:latin typeface="Verdana"/>
                <a:ea typeface="Verdana"/>
              </a:rPr>
              <a:t> </a:t>
            </a: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for the use which may be ma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of the information contained there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Verdana"/>
                <a:ea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1225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SCRIPT PREPARA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TOOL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3065400"/>
            <a:ext cx="11066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Timecode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Keyword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rmatting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Instruct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TIMECOD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00:07:11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-473040" y="3800160"/>
            <a:ext cx="1876104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KEYWORD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FORMATT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320" y="3065400"/>
            <a:ext cx="110667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nt siz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nt style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Col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727360" y="498240"/>
            <a:ext cx="1478592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pl-PL" sz="6000" spc="-1" strike="noStrike">
                <a:solidFill>
                  <a:srgbClr val="000000"/>
                </a:solidFill>
                <a:latin typeface="Verdana"/>
                <a:ea typeface="Verdana"/>
              </a:rPr>
              <a:t>INSTRUCTION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680" y="3065400"/>
            <a:ext cx="1437984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ext segments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9360" indent="-279360">
              <a:lnSpc>
                <a:spcPct val="15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Verdana"/>
                <a:ea typeface="Verdana"/>
              </a:rPr>
              <a:t>For the entire AD</a:t>
            </a:r>
            <a:r>
              <a:rPr b="0" lang="en-GB" sz="4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12:43:58Z</dcterms:created>
  <dc:creator>Marta Rial Pan</dc:creator>
  <dc:description/>
  <dc:language>en-US</dc:language>
  <cp:lastModifiedBy>1228835</cp:lastModifiedBy>
  <dcterms:modified xsi:type="dcterms:W3CDTF">2019-02-04T17:44:21Z</dcterms:modified>
  <cp:revision>2</cp:revision>
  <dc:subject/>
  <dc:title>Screen audio description: Recording</dc:title>
</cp:coreProperties>
</file>