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click.wav" ContentType="audio/x-wav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</p:sldIdLst>
  <p:sldSz cx="18288000" cy="10288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A65FD15A-52C4-43FC-AC47-97103BD97BE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E78A0C2-BA45-4DA3-AF5E-9300EEB4BA6E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5733BB79-70D9-4F24-95CA-F061FE32E43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7714BC0D-511F-40F0-BD32-194249322533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27384087-70F0-47EF-A839-0C5E01FC7E87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0D3FB476-253E-4D4B-ABD8-B57E6FCDDF7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7BB8D4EA-D8CD-4451-BCF5-2FBFF5648616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69769683-9CEF-47AB-B62E-6C8635E1881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0B40FC7C-73D1-41E1-844D-DC6000B86F8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3969A898-EFA2-43BE-977E-3159738BA64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B18FC583-F99E-4249-98C5-B24EF9702462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56076A62-0116-46A9-816D-E54709F8925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71C011C3-8AC5-4345-8F29-46EE5C3E908E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B6FBAF4A-06E5-443B-89C0-70C09F60F68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6261C203-BE4B-40AC-BA94-002A5ECA9EAB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5541530A-BA34-4F64-A5D0-B08CF50A96BB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4D1F4BCD-2B03-42B6-90D8-9DC1F931A50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345EFBE5-E8DF-4FB1-96E2-0B344BDA4CF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1931CDF0-6093-4982-8C5A-972A34BC84FF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C539B5E-6B15-4BB6-9A71-823EF182907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61CEBA41-B60D-45DF-A8E1-41C81C8C4B22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E8F0DA2E-FC92-4523-AAA7-4CAC53C0F72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A7AB233D-B7B9-47C7-BC9D-57C1BECA1C3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370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411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413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453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493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534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536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57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1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5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9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84132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40184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96200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52396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523960" indent="-279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523960" indent="-279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38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40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80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82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162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03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05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45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47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88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90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330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dlabproject.eu/Docs/adlab%20book/index.html" TargetMode="External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025640" y="647280"/>
            <a:ext cx="161654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Screen ad: </a:t>
            </a:r>
            <a:r>
              <a:rPr b="1" lang="pl-PL" sz="6600" spc="-1" strike="noStrike">
                <a:solidFill>
                  <a:srgbClr val="000000"/>
                </a:solidFill>
                <a:latin typeface="Verdana"/>
              </a:rPr>
              <a:t>characters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497400" y="2030400"/>
            <a:ext cx="11221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dule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nit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497400" y="3673440"/>
            <a:ext cx="11221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3500" spc="-1" strike="noStrike">
                <a:solidFill>
                  <a:srgbClr val="000000"/>
                </a:solidFill>
                <a:latin typeface="Verdana"/>
              </a:rPr>
              <a:t>Iwona mazu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ymbol zastępczy tekstu 6"/>
          <p:cNvSpPr/>
          <p:nvPr/>
        </p:nvSpPr>
        <p:spPr>
          <a:xfrm>
            <a:off x="3497400" y="4335480"/>
            <a:ext cx="1185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ADAM MICKIEWICZ UNIVERS</a:t>
            </a:r>
            <a:r>
              <a:rPr b="1" lang="pl-PL" sz="3500" spc="-1" strike="noStrike">
                <a:solidFill>
                  <a:srgbClr val="000000"/>
                </a:solidFill>
                <a:latin typeface="Verdana"/>
                <a:ea typeface="Verdana"/>
              </a:rPr>
              <a:t>I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TY IN POZN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LINEAR VS. NON-LINEAR PERCEP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6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LINEARIT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61" name="Symbol zastępczy tekstu 2" descr=""/>
          <p:cNvPicPr/>
          <p:nvPr/>
        </p:nvPicPr>
        <p:blipFill>
          <a:blip r:embed="rId1"/>
          <a:stretch/>
        </p:blipFill>
        <p:spPr>
          <a:xfrm>
            <a:off x="878040" y="3067200"/>
            <a:ext cx="8437320" cy="417492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5" descr="A woman wearing a visor, floral top, white skirt and wedges."/>
          <p:cNvPicPr/>
          <p:nvPr/>
        </p:nvPicPr>
        <p:blipFill>
          <a:blip r:embed="rId2"/>
          <a:stretch/>
        </p:blipFill>
        <p:spPr>
          <a:xfrm>
            <a:off x="10848960" y="2262240"/>
            <a:ext cx="4078440" cy="54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GESTURES AND FACIAL EXPRESSION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NAM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407960" y="3139920"/>
            <a:ext cx="83534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She makes the ‘OK’ gesture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”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ymbol zastępczy tekstu 2"/>
          <p:cNvSpPr/>
          <p:nvPr/>
        </p:nvSpPr>
        <p:spPr>
          <a:xfrm>
            <a:off x="9478800" y="7334280"/>
            <a:ext cx="981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A young woman raising her thumb in an 'OK' gesture."/>
          <p:cNvPicPr/>
          <p:nvPr/>
        </p:nvPicPr>
        <p:blipFill>
          <a:blip r:embed="rId1"/>
          <a:stretch/>
        </p:blipFill>
        <p:spPr>
          <a:xfrm>
            <a:off x="10156680" y="2751120"/>
            <a:ext cx="6402600" cy="40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DESCRIB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07960" y="3139920"/>
            <a:ext cx="83534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She 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raises her thumb.”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ymbol zastępczy tekstu 2"/>
          <p:cNvSpPr/>
          <p:nvPr/>
        </p:nvSpPr>
        <p:spPr>
          <a:xfrm>
            <a:off x="9478800" y="7334280"/>
            <a:ext cx="981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2" descr="A young woman raising her thumb in an 'OK' gesture."/>
          <p:cNvPicPr/>
          <p:nvPr/>
        </p:nvPicPr>
        <p:blipFill>
          <a:blip r:embed="rId1"/>
          <a:stretch/>
        </p:blipFill>
        <p:spPr>
          <a:xfrm>
            <a:off x="10156680" y="2751120"/>
            <a:ext cx="6402600" cy="40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DESCRIBE + NAM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407960" y="3139920"/>
            <a:ext cx="83534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4012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She 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raises her thumb in a ‘OK’ gesture.”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4012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ymbol zastępczy tekstu 2"/>
          <p:cNvSpPr/>
          <p:nvPr/>
        </p:nvSpPr>
        <p:spPr>
          <a:xfrm>
            <a:off x="9478800" y="7334280"/>
            <a:ext cx="981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A young woman raising her thumb in an 'OK' gesture."/>
          <p:cNvPicPr/>
          <p:nvPr/>
        </p:nvPicPr>
        <p:blipFill>
          <a:blip r:embed="rId1"/>
          <a:stretch/>
        </p:blipFill>
        <p:spPr>
          <a:xfrm>
            <a:off x="10156680" y="2751120"/>
            <a:ext cx="6402600" cy="40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INTRODUCING CHARACTER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NAME RIGHT AWA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407960" y="3139920"/>
            <a:ext cx="83534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n older man with a beard, John.”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ymbol zastępczy tekstu 2"/>
          <p:cNvSpPr/>
          <p:nvPr/>
        </p:nvSpPr>
        <p:spPr>
          <a:xfrm>
            <a:off x="9478800" y="7334280"/>
            <a:ext cx="981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" descr="A man with a beard."/>
          <p:cNvPicPr/>
          <p:nvPr/>
        </p:nvPicPr>
        <p:blipFill>
          <a:blip r:embed="rId1"/>
          <a:stretch/>
        </p:blipFill>
        <p:spPr>
          <a:xfrm>
            <a:off x="11220480" y="2414520"/>
            <a:ext cx="437364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NAME LATER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407960" y="3139920"/>
            <a:ext cx="8353440" cy="37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Man with a beard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Bearded man”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ymbol zastępczy tekstu 2"/>
          <p:cNvSpPr/>
          <p:nvPr/>
        </p:nvSpPr>
        <p:spPr>
          <a:xfrm>
            <a:off x="9478800" y="7334280"/>
            <a:ext cx="981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2" descr="Gray Scale Photo of Male With Beard"/>
          <p:cNvPicPr/>
          <p:nvPr/>
        </p:nvPicPr>
        <p:blipFill>
          <a:blip r:embed="rId1"/>
          <a:stretch/>
        </p:blipFill>
        <p:spPr>
          <a:xfrm>
            <a:off x="11220480" y="2414520"/>
            <a:ext cx="437364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INFLUENCING PARAMETER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066320" y="3114720"/>
            <a:ext cx="1644660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Time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ecret identity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ymbol zastępczy tekstu 2"/>
          <p:cNvSpPr/>
          <p:nvPr/>
        </p:nvSpPr>
        <p:spPr>
          <a:xfrm>
            <a:off x="9478800" y="7334280"/>
            <a:ext cx="981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Characters </a:t>
            </a: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 story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REFERENC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166672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Remael, A., Reviers, N., 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&amp; 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Vercauteren, G. (2015)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Pictures painted in words. ADLAB Audio Description guidelines. 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Trieste: EUT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 Retrieved from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4000" spc="-1" strike="noStrike" u="sng">
                <a:solidFill>
                  <a:srgbClr val="0563c1"/>
                </a:solidFill>
                <a:uFillTx/>
                <a:latin typeface="Verdana"/>
                <a:ea typeface="Verdana"/>
                <a:hlinkClick r:id="rId1"/>
              </a:rPr>
              <a:t>www.adlabproject.eu/Docs/adlab%20book/index.htm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025640" y="647280"/>
            <a:ext cx="161654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Screen ad: </a:t>
            </a:r>
            <a:r>
              <a:rPr b="1" lang="pl-PL" sz="6600" spc="-1" strike="noStrike">
                <a:solidFill>
                  <a:srgbClr val="000000"/>
                </a:solidFill>
                <a:latin typeface="Verdana"/>
              </a:rPr>
              <a:t>characters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497400" y="2030400"/>
            <a:ext cx="11221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dule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nit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497400" y="3673440"/>
            <a:ext cx="11221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3500" spc="-1" strike="noStrike">
                <a:solidFill>
                  <a:srgbClr val="000000"/>
                </a:solidFill>
                <a:latin typeface="Verdana"/>
              </a:rPr>
              <a:t>Iwona mazu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ymbol zastępczy tekstu 6"/>
          <p:cNvSpPr/>
          <p:nvPr/>
        </p:nvSpPr>
        <p:spPr>
          <a:xfrm>
            <a:off x="3497400" y="4335480"/>
            <a:ext cx="1185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ADAM MICKIEWICZ UNIVERS</a:t>
            </a:r>
            <a:r>
              <a:rPr b="1" lang="pl-PL" sz="3500" spc="-1" strike="noStrike">
                <a:solidFill>
                  <a:srgbClr val="000000"/>
                </a:solidFill>
                <a:latin typeface="Verdana"/>
                <a:ea typeface="Verdana"/>
              </a:rPr>
              <a:t>I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TY IN POZN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1913040" y="581040"/>
            <a:ext cx="14762160" cy="86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The preparation of this presentation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was supported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by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ADLAB P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(Audio Description: A Labora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for the Development of a New Professional Profile)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financed by the European Un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under the Erasmus+ Programm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Key Action 2 – Strategic Partnership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Project number:2016-1-IT02-KA203-024311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2453760" y="1380600"/>
            <a:ext cx="15011640" cy="78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The information and views set out in this pres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are those of the authors and do not necessarily refl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the official opinion of the European Un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Neither the European Union institutions and bod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nor any person acting on their behalf may be held responsible</a:t>
            </a:r>
            <a:r>
              <a:rPr b="0" lang="pl-PL" sz="4000" spc="-1" strike="noStrike">
                <a:solidFill>
                  <a:srgbClr val="212121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for the use which may be ma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of the information contained there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CHARACTER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7508880" cy="37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oca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upport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Backgroun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TRAIT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66320" y="3065040"/>
            <a:ext cx="1106676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ppearance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ctions and reaction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Dialogue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PRIORITISA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4" descr="A desk with neatly arranged laptop, notebook, pen and phone."/>
          <p:cNvPicPr/>
          <p:nvPr/>
        </p:nvPicPr>
        <p:blipFill>
          <a:blip r:embed="rId1"/>
          <a:stretch/>
        </p:blipFill>
        <p:spPr>
          <a:xfrm>
            <a:off x="4270320" y="1347840"/>
            <a:ext cx="10212480" cy="68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Tytuł 1" descr=""/>
          <p:cNvPicPr/>
          <p:nvPr/>
        </p:nvPicPr>
        <p:blipFill>
          <a:blip r:embed="rId1"/>
          <a:stretch/>
        </p:blipFill>
        <p:spPr>
          <a:xfrm>
            <a:off x="-476280" y="3797280"/>
            <a:ext cx="1876428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ymbol zastępczy tekstu 2"/>
          <p:cNvSpPr/>
          <p:nvPr/>
        </p:nvSpPr>
        <p:spPr>
          <a:xfrm>
            <a:off x="9478800" y="7334280"/>
            <a:ext cx="981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2" descr="A young woman with long, wavy blond hair, smoky eyes and full red lips."/>
          <p:cNvPicPr/>
          <p:nvPr/>
        </p:nvPicPr>
        <p:blipFill>
          <a:blip r:embed="rId1"/>
          <a:stretch/>
        </p:blipFill>
        <p:spPr>
          <a:xfrm>
            <a:off x="4675320" y="1484280"/>
            <a:ext cx="9559800" cy="614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GRADUAL DESCRIP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30T13:02:00Z</dcterms:created>
  <dc:creator>Microsoft Office User</dc:creator>
  <dc:description/>
  <dc:language>en-US</dc:language>
  <cp:lastModifiedBy>1228835</cp:lastModifiedBy>
  <dcterms:modified xsi:type="dcterms:W3CDTF">2019-02-04T15:53:16Z</dcterms:modified>
  <cp:revision>2</cp:revision>
  <dc:subject/>
  <dc:title>Screen audio description: characters</dc:title>
</cp:coreProperties>
</file>