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lick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0D18266-1E2A-4251-860D-329D6FFE2D6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E6D3014-2516-4B8B-BCB2-377BC1A384A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73D84A2-FE6E-4A01-BEDD-17C4E7D0188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39B0E94-2D1B-4901-A598-2000EDA5AFB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765107E-F8AF-469E-ABE0-4569C70C681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39010BE-750B-4958-80EA-1DC459A7F1C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E316989-35B0-4268-BDD2-787C2425357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08F92D5-05B6-4A3D-B97A-D6A6C3EFF63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884AF12-F637-4639-9B0D-8FF219AC6DB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3E98DCE-A5D8-4143-B28B-63C3EB295E0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8A9E80F-9729-4D63-8FC9-D7A51E20C08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ECFA94D-5806-48C2-B390-2B6450EE36C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B77C4A9-38B4-4C07-8C53-444644A5060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9B38092-C40D-4FDA-8292-864E6259E88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AB5CB048-0D0B-43FA-8451-3410A67846F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AA371F1-24E5-400B-960D-3199CAE6542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F9176E9-1A4C-4973-8F4C-7CD42A9F530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8B5891F-FA33-4499-AC94-3DA31BA4FFE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09A05AB-D7EE-4856-B98D-E8458758AE2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6C5619D-FDAC-4191-8FC6-8B2B5CD4774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5900" spc="-1" strike="noStrike">
                <a:solidFill>
                  <a:srgbClr val="000000"/>
                </a:solidFill>
                <a:latin typeface="Verdana"/>
              </a:rPr>
              <a:t>audio introductions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STRUCTIV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1106676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Practical and technical detail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Naming characters and loca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4" descr="A black headset."/>
          <p:cNvPicPr/>
          <p:nvPr/>
        </p:nvPicPr>
        <p:blipFill>
          <a:blip r:embed="rId1"/>
          <a:stretch/>
        </p:blipFill>
        <p:spPr>
          <a:xfrm>
            <a:off x="4794120" y="995400"/>
            <a:ext cx="968868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ACTUAL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SCRIPTIV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TY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110667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imple sentenc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lear conjunc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pecific vocabulary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ivid and engag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NALISE AD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NALISE AI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RECORDED AI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110667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oice talent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ecording studio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2" descr="A grey condenser microphone against the backdrop of a recording booth."/>
          <p:cNvPicPr/>
          <p:nvPr/>
        </p:nvPicPr>
        <p:blipFill>
          <a:blip r:embed="rId1"/>
          <a:stretch/>
        </p:blipFill>
        <p:spPr>
          <a:xfrm>
            <a:off x="8748720" y="3038400"/>
            <a:ext cx="73152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ryer, L. &amp; Romero Fresco, P. (2014). Audiointroductions. In A. Maszerowska, A. Matamala &amp; P. Orero (Eds.), </a:t>
            </a:r>
            <a:r>
              <a:rPr b="0" i="1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ption. New Perspectives Illustra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pp. 11-28). Amsterdam: John Benjami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5900" spc="-1" strike="noStrike">
                <a:solidFill>
                  <a:srgbClr val="000000"/>
                </a:solidFill>
                <a:latin typeface="Verdana"/>
              </a:rPr>
              <a:t>Audio introductions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udio introduction (AI)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98078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unning tex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actual and visual inform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films or live performanc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0" name="Picture 5" descr="A black and white clapperboard."/>
          <p:cNvPicPr/>
          <p:nvPr/>
        </p:nvPicPr>
        <p:blipFill>
          <a:blip r:embed="rId1"/>
          <a:stretch/>
        </p:blipFill>
        <p:spPr>
          <a:xfrm>
            <a:off x="10885320" y="2946240"/>
            <a:ext cx="533412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I and A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98078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 combination with AD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tand-alone piece of tex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I + AD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CONSISTENC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UNCT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FORMATIV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15640" y="2817360"/>
            <a:ext cx="953604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Director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wards and critical acclai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Genr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ynopsis, et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ORESHADOW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110667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haracter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Loca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tertextual referenc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EXPRESSIVE-AESTHETIC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110667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isual styl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ilm color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Editing techniques, etc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An extreme close-up of an eye."/>
          <p:cNvPicPr/>
          <p:nvPr/>
        </p:nvPicPr>
        <p:blipFill>
          <a:blip r:embed="rId1"/>
          <a:stretch/>
        </p:blipFill>
        <p:spPr>
          <a:xfrm>
            <a:off x="4819680" y="1211400"/>
            <a:ext cx="9317160" cy="61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3:06:00Z</dcterms:created>
  <dc:creator>Microsoft Office User</dc:creator>
  <dc:description/>
  <dc:language>en-US</dc:language>
  <cp:lastModifiedBy>1228835</cp:lastModifiedBy>
  <dcterms:modified xsi:type="dcterms:W3CDTF">2019-02-04T17:35:36Z</dcterms:modified>
  <cp:revision>2</cp:revision>
  <dc:subject/>
  <dc:title>Screen audio description: audio introductions</dc:title>
</cp:coreProperties>
</file>