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3.png" ContentType="image/png"/>
  <Override PartName="/ppt/media/click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BF777099-1F31-4473-894B-8C9C6D08D68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79BB5027-550E-4350-A044-E67F6C7B6F3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116C2D92-F268-4FFD-9477-05827DE71E2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008A26D1-D6EE-4B2B-BC61-4D17AFB8871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1F1A34DB-9BBC-494C-8237-8EED4CD114F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E3403BEF-683E-45FB-BE01-92BD6CA80C2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493DBFA0-4B63-4980-805D-528D9AF5523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55376F32-CC80-44C8-B9CD-7DDB6D7611E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3646DF1-469E-4616-85B7-23917F28040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8E72163-612F-40AF-B90A-FB24AD1C5F7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0D71FB6D-B90C-41A0-AAC7-D5D681573306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1DA1801-C00A-45DE-99F9-6BBFEF74E6C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B080BB69-D42E-456C-A254-CFCCE894BAC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AAF43A1B-721D-4236-B009-8B7A5D0538E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5907EFF6-D044-4304-A6E4-E8DC5B2A8BD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9EA77B5-316C-4BF9-A0CB-25CB266BE73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1F5A7043-A006-45A3-9D8E-ED6FC7F60B5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46AAD8F-D583-41E6-A0C0-0B688906BC3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9060C990-581E-4F97-B696-548CAE34766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28E46E67-3D99-403C-9649-79E5E5E4EC1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06387CB-1A9B-41E3-B6E9-547D02B75E4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35735D5-144B-4F76-859F-3A353867842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6642013-BB73-480C-BC29-39EB82AC481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2F1AFC0-A176-4D86-AEB2-CFB65966813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06872C1D-804B-4771-868A-0C4E92B23C6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4055E36B-B0DC-4E3D-B92F-7206906F589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F128DE45-D554-4E6D-B707-E7948D4B11D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1097F4D6-4EF5-4C4D-98A8-8ABAA3EEF64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370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411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413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453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493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534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536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57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1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5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9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4132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40184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96200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52396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523960" indent="-279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523960" indent="-279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38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80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162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03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05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45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47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88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90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330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adlabproject.eu/Docs/adlab%20book/index.html" TargetMode="External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025640" y="647280"/>
            <a:ext cx="16165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Screen ad: </a:t>
            </a:r>
            <a:r>
              <a:rPr b="1" lang="pl-PL" sz="6600" spc="-1" strike="noStrike">
                <a:solidFill>
                  <a:srgbClr val="000000"/>
                </a:solidFill>
                <a:latin typeface="Verdana"/>
              </a:rPr>
              <a:t>film language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497400" y="2030400"/>
            <a:ext cx="11221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ule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it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497400" y="3673440"/>
            <a:ext cx="11221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Verdana"/>
              </a:rPr>
              <a:t>Iwona mazu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ymbol zastępczy tekstu 6"/>
          <p:cNvSpPr/>
          <p:nvPr/>
        </p:nvSpPr>
        <p:spPr>
          <a:xfrm>
            <a:off x="3497400" y="4335480"/>
            <a:ext cx="1185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ADAM MICKIEWICZ UNIVERS</a:t>
            </a:r>
            <a:r>
              <a:rPr b="1" lang="pl-PL" sz="3500" spc="-1" strike="noStrike">
                <a:solidFill>
                  <a:srgbClr val="000000"/>
                </a:solidFill>
                <a:latin typeface="Verdana"/>
                <a:ea typeface="Verdana"/>
              </a:rPr>
              <a:t>I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TY IN POZN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7142040" y="3830760"/>
            <a:ext cx="1040472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1" lang="pl-PL" sz="4800" spc="-1" strike="noStrike">
                <a:solidFill>
                  <a:srgbClr val="000000"/>
                </a:solidFill>
                <a:latin typeface="Verdana"/>
                <a:ea typeface="Verdana"/>
              </a:rPr>
              <a:t>A flashback</a:t>
            </a:r>
            <a:r>
              <a:rPr b="0" lang="pl-PL" sz="48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800" spc="-1" strike="noStrike">
                <a:solidFill>
                  <a:srgbClr val="000000"/>
                </a:solidFill>
                <a:latin typeface="Verdana"/>
                <a:ea typeface="Verdana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RAMING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SHOT TYP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3" descr="A skyline with high-rise buildings against cloudy sky."/>
          <p:cNvPicPr/>
          <p:nvPr/>
        </p:nvPicPr>
        <p:blipFill>
          <a:blip r:embed="rId1"/>
          <a:stretch/>
        </p:blipFill>
        <p:spPr>
          <a:xfrm>
            <a:off x="3484440" y="1901880"/>
            <a:ext cx="11862000" cy="63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A close-up of a red apple hanging on a tree branch."/>
          <p:cNvPicPr/>
          <p:nvPr/>
        </p:nvPicPr>
        <p:blipFill>
          <a:blip r:embed="rId1"/>
          <a:stretch/>
        </p:blipFill>
        <p:spPr>
          <a:xfrm>
            <a:off x="3905280" y="1582560"/>
            <a:ext cx="10304280" cy="663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SHOT DURA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2" descr="A mountainous landscape."/>
          <p:cNvPicPr/>
          <p:nvPr/>
        </p:nvPicPr>
        <p:blipFill>
          <a:blip r:embed="rId1"/>
          <a:stretch/>
        </p:blipFill>
        <p:spPr>
          <a:xfrm>
            <a:off x="3978360" y="1557360"/>
            <a:ext cx="10553760" cy="647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LONG TAKE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MORE DETAILED AD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EDITING</a:t>
            </a:r>
            <a:r>
              <a:rPr b="1" lang="en-GB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400832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hot arrangement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In AD: fast cut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short and simple sentence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DETERMINE FILMIC TECHNIQUES</a:t>
            </a:r>
            <a:br>
              <a:rPr sz="6000"/>
            </a:b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&amp; FUNCTION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2" descr="A close-up of a woman's eyes."/>
          <p:cNvPicPr/>
          <p:nvPr/>
        </p:nvPicPr>
        <p:blipFill>
          <a:blip r:embed="rId1"/>
          <a:stretch/>
        </p:blipFill>
        <p:spPr>
          <a:xfrm>
            <a:off x="4151160" y="1359000"/>
            <a:ext cx="1065240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A spiral of film tape."/>
          <p:cNvPicPr/>
          <p:nvPr/>
        </p:nvPicPr>
        <p:blipFill>
          <a:blip r:embed="rId1"/>
          <a:stretch/>
        </p:blipFill>
        <p:spPr>
          <a:xfrm>
            <a:off x="3929040" y="1265400"/>
            <a:ext cx="9910800" cy="63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AD STRATEGI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66680" y="2644920"/>
            <a:ext cx="16405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Eye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in close-up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”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(nam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close-up reflects fear in her eyes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”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(name + funct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ear is reflected in her eyes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”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(funct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ILMIC TECHNIQUES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LANGUAGE STRUCTUR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1136520" y="2892240"/>
            <a:ext cx="87487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 man drinks water.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 hand holding a glass of water.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4" descr="A hand holding a glass of water."/>
          <p:cNvPicPr/>
          <p:nvPr/>
        </p:nvPicPr>
        <p:blipFill>
          <a:blip r:embed="rId1"/>
          <a:stretch/>
        </p:blipFill>
        <p:spPr>
          <a:xfrm>
            <a:off x="10044000" y="2500200"/>
            <a:ext cx="7601040" cy="50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WHAT + HOW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‘SEE’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REFERENC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66672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Remael, A., Reviers, N., 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&amp; 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Vercauteren, G. (2015)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Pictures painted in words. ADLAB Audio Description guidelines. 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Trieste: EUT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 Retrieved from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4000" spc="-1" strike="noStrike" u="sng">
                <a:solidFill>
                  <a:srgbClr val="0563c1"/>
                </a:solidFill>
                <a:uFillTx/>
                <a:latin typeface="Verdana"/>
                <a:ea typeface="Verdana"/>
                <a:hlinkClick r:id="rId1"/>
              </a:rPr>
              <a:t>www.adlabproject.eu/Docs/adlab%20book/index.htm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REFERENC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66672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Perego, E. (2014). Film language and tools. In A. Maszerowska, A. Matamala &amp; P. Orero (Eds.), </a:t>
            </a:r>
            <a:r>
              <a:rPr b="0" i="1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udio Description. New Perspectives Illustrated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(pp. 81-101). Amsterdam: John Benjami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025640" y="647280"/>
            <a:ext cx="16165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Screen ad: </a:t>
            </a:r>
            <a:r>
              <a:rPr b="1" lang="pl-PL" sz="6600" spc="-1" strike="noStrike">
                <a:solidFill>
                  <a:srgbClr val="000000"/>
                </a:solidFill>
                <a:latin typeface="Verdana"/>
              </a:rPr>
              <a:t>Film language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497400" y="2030400"/>
            <a:ext cx="11221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ule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it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497400" y="3673440"/>
            <a:ext cx="11221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Verdana"/>
              </a:rPr>
              <a:t>Iwona mazu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ymbol zastępczy tekstu 6"/>
          <p:cNvSpPr/>
          <p:nvPr/>
        </p:nvSpPr>
        <p:spPr>
          <a:xfrm>
            <a:off x="3497400" y="4335480"/>
            <a:ext cx="1185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ADAM MICKIEWICZ UNIVERS</a:t>
            </a:r>
            <a:r>
              <a:rPr b="1" lang="pl-PL" sz="3500" spc="-1" strike="noStrike">
                <a:solidFill>
                  <a:srgbClr val="000000"/>
                </a:solidFill>
                <a:latin typeface="Verdana"/>
                <a:ea typeface="Verdana"/>
              </a:rPr>
              <a:t>I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TY IN POZN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1913040" y="581040"/>
            <a:ext cx="14762160" cy="86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The preparation of this presentation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was supported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by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ADLAB P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(Audio Description: A Labora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for the Development of a New Professional Profile)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financed by the European Un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under the Erasmus+ Programm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Key Action 2 – Strategic Partnership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Project number:2016-1-IT02-KA203-024311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2453760" y="1380600"/>
            <a:ext cx="15011640" cy="78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The information and views set out in this pres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are those of the authors and do not necessarily refl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the official opinion of the European Un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Neither the European Union institutions and bo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nor any person acting on their behalf may be held responsible</a:t>
            </a:r>
            <a:r>
              <a:rPr b="0" lang="pl-PL" sz="4000" spc="-1" strike="noStrike">
                <a:solidFill>
                  <a:srgbClr val="212121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for the use which may be ma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of the information contained there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ILM TECHNIQUES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11664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Mi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se-en-scène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C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inematography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E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diting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MI</a:t>
            </a:r>
            <a:r>
              <a:rPr b="1" lang="en-GB" sz="6000" spc="-1" strike="noStrike">
                <a:solidFill>
                  <a:srgbClr val="000000"/>
                </a:solidFill>
                <a:latin typeface="Verdana"/>
                <a:ea typeface="Verdana"/>
              </a:rPr>
              <a:t>SE-EN-SCÈNE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11664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etting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Costumes and makeup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taging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Picture 5" descr="A blond woman with a red dot on her forehead  and lavish, dangling earrings. "/>
          <p:cNvPicPr/>
          <p:nvPr/>
        </p:nvPicPr>
        <p:blipFill>
          <a:blip r:embed="rId1"/>
          <a:stretch/>
        </p:blipFill>
        <p:spPr>
          <a:xfrm>
            <a:off x="11615760" y="2600280"/>
            <a:ext cx="37368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MI</a:t>
            </a:r>
            <a:r>
              <a:rPr b="1" lang="en-GB" sz="6000" spc="-1" strike="noStrike">
                <a:solidFill>
                  <a:srgbClr val="000000"/>
                </a:solidFill>
                <a:latin typeface="Verdana"/>
                <a:ea typeface="Verdana"/>
              </a:rPr>
              <a:t>SE-EN-SCÈNE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AD PRIORITI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Verdana"/>
                <a:ea typeface="Verdana"/>
              </a:rPr>
              <a:t>CINEMATOGRAPHY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66320" y="3065040"/>
            <a:ext cx="1106676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P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hotographic qualiti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ram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Duration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Picture 5" descr="A camera recorder."/>
          <p:cNvPicPr/>
          <p:nvPr/>
        </p:nvPicPr>
        <p:blipFill>
          <a:blip r:embed="rId1"/>
          <a:stretch/>
        </p:blipFill>
        <p:spPr>
          <a:xfrm>
            <a:off x="9391680" y="2798640"/>
            <a:ext cx="6791400" cy="45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P</a:t>
            </a:r>
            <a:r>
              <a:rPr b="1" lang="en-GB" sz="6000" spc="-1" strike="noStrike">
                <a:solidFill>
                  <a:srgbClr val="000000"/>
                </a:solidFill>
                <a:latin typeface="Verdana"/>
                <a:ea typeface="Verdana"/>
              </a:rPr>
              <a:t>HOTOGRAPHIC QUALITIES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680" y="2693880"/>
            <a:ext cx="87696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C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olou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Speed of mo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Light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Camera angles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A silhouette of a man in a tunnel in black and white."/>
          <p:cNvPicPr/>
          <p:nvPr/>
        </p:nvPicPr>
        <p:blipFill>
          <a:blip r:embed="rId1"/>
          <a:stretch/>
        </p:blipFill>
        <p:spPr>
          <a:xfrm>
            <a:off x="4078440" y="1755720"/>
            <a:ext cx="995832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4597560" y="3830760"/>
            <a:ext cx="129492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800" spc="-1" strike="noStrike">
                <a:solidFill>
                  <a:srgbClr val="000000"/>
                </a:solidFill>
                <a:latin typeface="Verdana"/>
                <a:ea typeface="Verdana"/>
              </a:rPr>
              <a:t>Now in </a:t>
            </a:r>
            <a:r>
              <a:rPr b="1" lang="pl-PL" sz="4800" spc="-1" strike="noStrike">
                <a:solidFill>
                  <a:srgbClr val="000000"/>
                </a:solidFill>
                <a:latin typeface="Verdana"/>
                <a:ea typeface="Verdana"/>
              </a:rPr>
              <a:t>black and white</a:t>
            </a:r>
            <a:r>
              <a:rPr b="0" lang="pl-PL" sz="48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800" spc="-1" strike="noStrike">
                <a:solidFill>
                  <a:srgbClr val="000000"/>
                </a:solidFill>
                <a:latin typeface="Verdana"/>
                <a:ea typeface="Verdana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30T13:05:29Z</dcterms:created>
  <dc:creator>Microsoft Office User</dc:creator>
  <dc:description/>
  <dc:language>en-US</dc:language>
  <cp:lastModifiedBy>1228835</cp:lastModifiedBy>
  <dcterms:modified xsi:type="dcterms:W3CDTF">2019-02-04T17:29:00Z</dcterms:modified>
  <cp:revision>2</cp:revision>
  <dc:subject/>
  <dc:title>Screen audio description: film language</dc:title>
</cp:coreProperties>
</file>