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click.wav" ContentType="audio/x-wav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</p:sldIdLst>
  <p:sldSz cx="18288000" cy="10288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46E11040-4D89-48B2-9F10-1A9CA0417C1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E80CC82B-90F4-4190-8E93-69CB65423E70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C1656E9F-173D-4766-941B-26EB90CFE212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4FE45E75-5FA6-4E99-BC46-A498123EA299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6E7586AB-47D8-4942-B0F6-199593DE6E24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439B6320-3457-45F0-A21B-69B1AFCA26CC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439EFB6D-3106-463E-88F0-4441FB64E301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15F44C96-42DB-443A-890F-0446442A24D4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43A4A5F4-1229-4625-8144-A087D32ECBE0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1EC264FF-20FC-4DE3-8E61-975C6B8B20A1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2DB02571-3CA5-43B7-BBB2-D7D817752ACB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5E8E9294-6C27-4AA8-95A9-C862C668DD60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D86DDFD8-6297-441F-A783-7347049322F4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C9C44EB9-0055-47C4-8BEE-A7C5774E90A0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3068BA1D-C667-4649-8562-75416C305641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DD7E2FD4-D831-4A78-B27F-1AAFB37564D1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268C1BBE-2C36-4B6D-A9C1-F13C477ECC70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F7A4FFA3-6CF9-424C-8C9B-B6401DDF6990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8443B46A-BADB-4014-AF66-962AF6199FBF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F3363BF1-D6AB-4CD7-8115-20A61722D545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870A3EF7-14CF-4691-BBFD-7E6E3B3D5625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00FE9619-9EC4-4831-A758-A46D5DB31FA0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370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Obraz 4" descr=""/>
          <p:cNvPicPr/>
          <p:nvPr/>
        </p:nvPicPr>
        <p:blipFill>
          <a:blip r:embed="rId3"/>
          <a:stretch/>
        </p:blipFill>
        <p:spPr>
          <a:xfrm>
            <a:off x="7451640" y="979488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411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413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Obraz 7" descr=""/>
          <p:cNvPicPr/>
          <p:nvPr/>
        </p:nvPicPr>
        <p:blipFill>
          <a:blip r:embed="rId4"/>
          <a:stretch/>
        </p:blipFill>
        <p:spPr>
          <a:xfrm>
            <a:off x="7843680" y="7873920"/>
            <a:ext cx="2600640" cy="9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453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Obraz 4" descr=""/>
          <p:cNvPicPr/>
          <p:nvPr/>
        </p:nvPicPr>
        <p:blipFill>
          <a:blip r:embed="rId3"/>
          <a:stretch/>
        </p:blipFill>
        <p:spPr>
          <a:xfrm>
            <a:off x="7467480" y="978696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493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Obraz 4" descr=""/>
          <p:cNvPicPr/>
          <p:nvPr/>
        </p:nvPicPr>
        <p:blipFill>
          <a:blip r:embed="rId3"/>
          <a:stretch/>
        </p:blipFill>
        <p:spPr>
          <a:xfrm>
            <a:off x="7451640" y="979488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534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536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Obraz 7" descr=""/>
          <p:cNvPicPr/>
          <p:nvPr/>
        </p:nvPicPr>
        <p:blipFill>
          <a:blip r:embed="rId4"/>
          <a:stretch/>
        </p:blipFill>
        <p:spPr>
          <a:xfrm>
            <a:off x="7843680" y="7873920"/>
            <a:ext cx="2600640" cy="9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576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Obraz 4" descr=""/>
          <p:cNvPicPr/>
          <p:nvPr/>
        </p:nvPicPr>
        <p:blipFill>
          <a:blip r:embed="rId3"/>
          <a:stretch/>
        </p:blipFill>
        <p:spPr>
          <a:xfrm>
            <a:off x="7467480" y="978696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616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Obraz 4" descr=""/>
          <p:cNvPicPr/>
          <p:nvPr/>
        </p:nvPicPr>
        <p:blipFill>
          <a:blip r:embed="rId3"/>
          <a:stretch/>
        </p:blipFill>
        <p:spPr>
          <a:xfrm>
            <a:off x="7451640" y="979488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656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Obraz 4" descr=""/>
          <p:cNvPicPr/>
          <p:nvPr/>
        </p:nvPicPr>
        <p:blipFill>
          <a:blip r:embed="rId3"/>
          <a:stretch/>
        </p:blipFill>
        <p:spPr>
          <a:xfrm>
            <a:off x="7451640" y="979488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696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Obraz 4" descr=""/>
          <p:cNvPicPr/>
          <p:nvPr/>
        </p:nvPicPr>
        <p:blipFill>
          <a:blip r:embed="rId3"/>
          <a:stretch/>
        </p:blipFill>
        <p:spPr>
          <a:xfrm>
            <a:off x="7451640" y="9794880"/>
            <a:ext cx="3353040" cy="358920"/>
          </a:xfrm>
          <a:prstGeom prst="rect">
            <a:avLst/>
          </a:prstGeom>
          <a:ln w="0">
            <a:noFill/>
          </a:ln>
        </p:spPr>
      </p:pic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9360" indent="-27936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841320" indent="-27936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401840" indent="-27936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•"/>
              <a:tabLst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962000" indent="-27936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•"/>
              <a:tabLst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523960" indent="-27936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•"/>
              <a:tabLst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523960" indent="-279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523960" indent="-279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38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40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80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82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Obraz 7" descr=""/>
          <p:cNvPicPr/>
          <p:nvPr/>
        </p:nvPicPr>
        <p:blipFill>
          <a:blip r:embed="rId4"/>
          <a:stretch/>
        </p:blipFill>
        <p:spPr>
          <a:xfrm>
            <a:off x="7843680" y="7873920"/>
            <a:ext cx="2600640" cy="9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122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Obraz 4" descr=""/>
          <p:cNvPicPr/>
          <p:nvPr/>
        </p:nvPicPr>
        <p:blipFill>
          <a:blip r:embed="rId3"/>
          <a:stretch/>
        </p:blipFill>
        <p:spPr>
          <a:xfrm>
            <a:off x="7467480" y="978696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162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Obraz 4" descr=""/>
          <p:cNvPicPr/>
          <p:nvPr/>
        </p:nvPicPr>
        <p:blipFill>
          <a:blip r:embed="rId3"/>
          <a:stretch/>
        </p:blipFill>
        <p:spPr>
          <a:xfrm>
            <a:off x="7451640" y="979488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203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205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245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247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Obraz 7" descr=""/>
          <p:cNvPicPr/>
          <p:nvPr/>
        </p:nvPicPr>
        <p:blipFill>
          <a:blip r:embed="rId4"/>
          <a:stretch/>
        </p:blipFill>
        <p:spPr>
          <a:xfrm>
            <a:off x="7843680" y="7873920"/>
            <a:ext cx="2600640" cy="9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288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290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Obraz 7" descr=""/>
          <p:cNvPicPr/>
          <p:nvPr/>
        </p:nvPicPr>
        <p:blipFill>
          <a:blip r:embed="rId4"/>
          <a:stretch/>
        </p:blipFill>
        <p:spPr>
          <a:xfrm>
            <a:off x="7843680" y="7873920"/>
            <a:ext cx="2600640" cy="9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330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Obraz 4" descr=""/>
          <p:cNvPicPr/>
          <p:nvPr/>
        </p:nvPicPr>
        <p:blipFill>
          <a:blip r:embed="rId3"/>
          <a:stretch/>
        </p:blipFill>
        <p:spPr>
          <a:xfrm>
            <a:off x="7467480" y="978696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adlabproject.eu/Docs/adlab%20book/index.html" TargetMode="External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9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0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025640" y="647280"/>
            <a:ext cx="1616544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Verdana"/>
              </a:rPr>
              <a:t>Screen ad: </a:t>
            </a:r>
            <a:r>
              <a:rPr b="1" lang="pl-PL" sz="6600" spc="-1" strike="noStrike">
                <a:solidFill>
                  <a:srgbClr val="000000"/>
                </a:solidFill>
                <a:latin typeface="Verdana"/>
              </a:rPr>
              <a:t>RECORDING</a:t>
            </a: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497400" y="2030400"/>
            <a:ext cx="11221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odule </a:t>
            </a:r>
            <a:r>
              <a:rPr b="1" lang="pl-PL" sz="4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nit </a:t>
            </a:r>
            <a:r>
              <a:rPr b="1" lang="pl-PL" sz="4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497400" y="3673440"/>
            <a:ext cx="11221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3500" spc="-1" strike="noStrike">
                <a:solidFill>
                  <a:srgbClr val="000000"/>
                </a:solidFill>
                <a:latin typeface="Verdana"/>
              </a:rPr>
              <a:t>Iwona mazur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Symbol zastępczy tekstu 6"/>
          <p:cNvSpPr/>
          <p:nvPr/>
        </p:nvSpPr>
        <p:spPr>
          <a:xfrm>
            <a:off x="3497400" y="4335480"/>
            <a:ext cx="11855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Verdana"/>
                <a:ea typeface="Verdana"/>
              </a:rPr>
              <a:t>ADAM MICKIEWICZ UNIVERS</a:t>
            </a:r>
            <a:r>
              <a:rPr b="1" lang="pl-PL" sz="3500" spc="-1" strike="noStrike">
                <a:solidFill>
                  <a:srgbClr val="000000"/>
                </a:solidFill>
                <a:latin typeface="Verdana"/>
                <a:ea typeface="Verdana"/>
              </a:rPr>
              <a:t>I</a:t>
            </a:r>
            <a:r>
              <a:rPr b="1" lang="en-US" sz="3500" spc="-1" strike="noStrike">
                <a:solidFill>
                  <a:srgbClr val="000000"/>
                </a:solidFill>
                <a:latin typeface="Verdana"/>
                <a:ea typeface="Verdana"/>
              </a:rPr>
              <a:t>TY IN POZNA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VOICE TYPE</a:t>
            </a: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GENR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PRE-RECORDING CHE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066680" y="3065400"/>
            <a:ext cx="1437984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Synchrony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Timecodes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Picture 4" descr="A desk with a microphone, two screens, a laptop, headphones and a keyboard."/>
          <p:cNvPicPr/>
          <p:nvPr/>
        </p:nvPicPr>
        <p:blipFill>
          <a:blip r:embed="rId1"/>
          <a:stretch/>
        </p:blipFill>
        <p:spPr>
          <a:xfrm>
            <a:off x="4251240" y="944640"/>
            <a:ext cx="10676160" cy="711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RECORDING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066320" y="3114360"/>
            <a:ext cx="164466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Voice talent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Sound director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Sound designer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Audio describe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ymbol zastępczy tekstu 2"/>
          <p:cNvSpPr/>
          <p:nvPr/>
        </p:nvSpPr>
        <p:spPr>
          <a:xfrm>
            <a:off x="9478800" y="7334280"/>
            <a:ext cx="98125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SOUND DIRECTOR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SOUND DESIGNER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AUDIO DESCRIBER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SOUND MIXING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1" name="Symbol zastępczy tekstu 2"/>
          <p:cNvSpPr/>
          <p:nvPr/>
        </p:nvSpPr>
        <p:spPr>
          <a:xfrm>
            <a:off x="9478800" y="7334280"/>
            <a:ext cx="98125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7" descr="A mixing console."/>
          <p:cNvPicPr/>
          <p:nvPr/>
        </p:nvPicPr>
        <p:blipFill>
          <a:blip r:embed="rId1"/>
          <a:stretch/>
        </p:blipFill>
        <p:spPr>
          <a:xfrm>
            <a:off x="4210200" y="2384280"/>
            <a:ext cx="9620280" cy="5661000"/>
          </a:xfrm>
          <a:prstGeom prst="rect">
            <a:avLst/>
          </a:prstGeom>
          <a:ln w="0">
            <a:noFill/>
          </a:ln>
        </p:spPr>
      </p:pic>
      <p:sp>
        <p:nvSpPr>
          <p:cNvPr id="773" name="Prostokąt 4"/>
          <p:cNvSpPr/>
          <p:nvPr/>
        </p:nvSpPr>
        <p:spPr>
          <a:xfrm>
            <a:off x="4229280" y="8238960"/>
            <a:ext cx="111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hoto courtesy of Sound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SOUND LEVEL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Verdana"/>
              </a:rPr>
              <a:t>REFERENCE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066680" y="3065400"/>
            <a:ext cx="166672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Remael, A., Reviers, N., 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&amp; 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Vercauteren, G. (2015)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i="1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Pictures painted in words. ADLAB Audio Description guidelines. 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Trieste: EUT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. Retrieved from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GB" sz="4000" spc="-1" strike="noStrike" u="sng">
                <a:solidFill>
                  <a:srgbClr val="0563c1"/>
                </a:solidFill>
                <a:uFillTx/>
                <a:latin typeface="Verdana"/>
                <a:ea typeface="Verdana"/>
                <a:hlinkClick r:id="rId1"/>
              </a:rPr>
              <a:t>www.adlabproject.eu/Docs/adlab%20book/index.htm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RECORDED</a:t>
            </a: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Verdana"/>
              </a:rPr>
              <a:t> AD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066680" y="3065400"/>
            <a:ext cx="537840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Audio describe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Voice talen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Synthetic voic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0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025640" y="647280"/>
            <a:ext cx="1616544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Verdana"/>
              </a:rPr>
              <a:t>Screen ad: </a:t>
            </a:r>
            <a:r>
              <a:rPr b="1" lang="pl-PL" sz="6600" spc="-1" strike="noStrike">
                <a:solidFill>
                  <a:srgbClr val="000000"/>
                </a:solidFill>
                <a:latin typeface="Verdana"/>
              </a:rPr>
              <a:t>RECORDING</a:t>
            </a: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497400" y="2030400"/>
            <a:ext cx="11221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odule </a:t>
            </a:r>
            <a:r>
              <a:rPr b="1" lang="pl-PL" sz="4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nit </a:t>
            </a:r>
            <a:r>
              <a:rPr b="1" lang="pl-PL" sz="4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497400" y="3673440"/>
            <a:ext cx="11221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3500" spc="-1" strike="noStrike">
                <a:solidFill>
                  <a:srgbClr val="000000"/>
                </a:solidFill>
                <a:latin typeface="Verdana"/>
              </a:rPr>
              <a:t>Iwona mazur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Symbol zastępczy tekstu 6"/>
          <p:cNvSpPr/>
          <p:nvPr/>
        </p:nvSpPr>
        <p:spPr>
          <a:xfrm>
            <a:off x="3497400" y="4335480"/>
            <a:ext cx="11855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Verdana"/>
                <a:ea typeface="Verdana"/>
              </a:rPr>
              <a:t>ADAM MICKIEWICZ UNIVERS</a:t>
            </a:r>
            <a:r>
              <a:rPr b="1" lang="pl-PL" sz="3500" spc="-1" strike="noStrike">
                <a:solidFill>
                  <a:srgbClr val="000000"/>
                </a:solidFill>
                <a:latin typeface="Verdana"/>
                <a:ea typeface="Verdana"/>
              </a:rPr>
              <a:t>I</a:t>
            </a:r>
            <a:r>
              <a:rPr b="1" lang="en-US" sz="3500" spc="-1" strike="noStrike">
                <a:solidFill>
                  <a:srgbClr val="000000"/>
                </a:solidFill>
                <a:latin typeface="Verdana"/>
                <a:ea typeface="Verdana"/>
              </a:rPr>
              <a:t>TY IN POZNA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1913040" y="581040"/>
            <a:ext cx="14762160" cy="86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The preparation of this presentation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was supported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by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ADLAB PR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(Audio Description: A Laborat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for the Development of a New Professional Profile)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financed by the European Un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under the Erasmus+ Programme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Key Action 2 – Strategic Partnerships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Project number:2016-1-IT02-KA203-024311.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/>
          </p:nvPr>
        </p:nvSpPr>
        <p:spPr>
          <a:xfrm>
            <a:off x="2453760" y="1380600"/>
            <a:ext cx="15011640" cy="78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The information and views set out in this presen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are those of the authors and do not necessarily refle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the official opinion of the European Uni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Neither the European Union institutions and bod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nor any person acting on their behalf may be held responsible</a:t>
            </a:r>
            <a:r>
              <a:rPr b="0" lang="pl-PL" sz="4000" spc="-1" strike="noStrike">
                <a:solidFill>
                  <a:srgbClr val="212121"/>
                </a:solidFill>
                <a:latin typeface="Verdana"/>
                <a:ea typeface="Verdana"/>
              </a:rPr>
              <a:t> </a:t>
            </a: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for the use which may be ma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of the information contained therei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SCRIPT PREPARATION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TOOL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066320" y="3065400"/>
            <a:ext cx="1106676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Timecodes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Keywords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Formatting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Instruction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TIMECODE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00:07:11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KEYWORD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FORMATTING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066320" y="3065400"/>
            <a:ext cx="1106676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Font size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Font style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Color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INSTRUCTION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066680" y="3065400"/>
            <a:ext cx="1437984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For text segments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For the entire AD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30T12:43:58Z</dcterms:created>
  <dc:creator>Marta Rial Pan</dc:creator>
  <dc:description/>
  <dc:language>en-US</dc:language>
  <cp:lastModifiedBy>1228835</cp:lastModifiedBy>
  <dcterms:modified xsi:type="dcterms:W3CDTF">2019-02-04T17:44:21Z</dcterms:modified>
  <cp:revision>2</cp:revision>
  <dc:subject/>
  <dc:title>Screen audio description: Recording</dc:title>
</cp:coreProperties>
</file>